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1FD-063F-49C9-A130-2EB6204E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B9E-B983-4D00-96E9-481F8D3D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4A6-E54A-41F0-8F00-371BA30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0CA-3C3C-45C8-8A98-8F2D5DA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A59-16FB-43E3-AA13-E5E7D08C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2A6-4C7C-47DD-A48A-B764E3B1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871-401C-44CE-875C-0DE3AD1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D47-7E1B-49ED-9247-D83B2A7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E9A-C119-49CE-84A7-B1DC4DD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C09-5CF1-4B45-BFBA-0B25E43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D39-1BA6-48FA-A43C-6A95C9D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29528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01760"/>
            <a:ext cx="263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C80-4080-48DF-92B3-46D6DD91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0176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10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295280"/>
            <a:ext cx="399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01760"/>
            <a:ext cx="8178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1/19/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Columbia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B44B-DC7E-48D2-86B9-DC791903C7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twork Security Architectur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ntroductio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ummer School on Software Security Theory to Practic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133720" y="4095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l A. Gun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iversity of Pennsylvan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Soon to be University of Illinoi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er 200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Objective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vide a series of case studies in network security that lie on the border of theoretical advances and existing practi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lore research strateg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do practical work with university resou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provide meaningful empirical evidence for theoretical adva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research topics and platfor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Lecture Outline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ee lectures, each in two par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damen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malization and tes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rt car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unter</cp:lastModifiedBy>
  <dcterms:modified xsi:type="dcterms:W3CDTF">2004-06-17T16:44:29Z</dcterms:modified>
  <cp:revision>132</cp:revision>
  <dc:subject/>
  <dc:title>CIS/TCOM 551 Computer and Network Security Part 1</dc:title>
</cp:coreProperties>
</file>